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F1E54-101E-4715-8C1A-74A0667CF9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0C5D-C615-4F8B-A724-C3D7EE68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71117-C50A-4605-98D3-6CEFBB3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4C06-66B2-4C95-92C7-0084A0BB2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0893-867B-4ACA-AB41-B846204C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6500E-62C0-4D75-8DBF-3B2A289C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E140-640F-426B-987F-72AC1CA0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1D7A-F071-45C3-8CA4-E03756B3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49F1-CF5C-412B-BE75-9A932422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C40A-BEC4-47BC-B488-0B3CD370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3189-200A-4AE7-96EA-06B100C2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076E-A81E-4E08-9712-55B83C67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909B-051F-4C03-9819-12AC97F9AD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外科护理学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外科学和外科护理学的发展过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外科学与外科护理学之间的关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用外科护理学的学习方法学习本课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7-24T06:58:46Z</dcterms:modified>
  <cp:revision>90</cp:revision>
  <dc:subject/>
  <dc:title>内科护理学</dc:title>
</cp:coreProperties>
</file>